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0.wmf" ContentType="image/x-wmf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EF5C-5625-4351-895B-A370F438D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3E3D-2CF0-472D-AF46-0019B7B16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22FE-0121-43B4-A414-0A2BF7701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465B-23B1-43B4-9A6E-7C42681DA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A02C-4579-4D11-B65C-EE77D5B64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0C12-6A0E-46C5-90C4-B618211D0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62F9-374A-48FD-8E3B-3C2C8E31D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13E3-C9D6-4C0F-B5AA-BEC60A302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BB85-6FF9-4F85-A066-E51B15B29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3D92-788B-44FE-B470-C75C839DE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D87A-FBDF-4221-9864-114676CF8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9B49-4628-483E-94E0-997D0318A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4C8F0-98BF-40DF-87B6-548BB6C8F4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225360" y="1044720"/>
            <a:ext cx="9521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Earth’s Histor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Rivet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3809880" y="2057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20574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257800" y="20574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019920" y="20574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736640" y="1641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947760" y="16416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709880" y="16416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411880" y="167652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173280" y="167652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3124080" y="3048120"/>
            <a:ext cx="37339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16765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85800" y="16765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133720" y="2438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029200" y="24382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523880" y="16765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362320" y="16765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200400" y="16765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114800" y="16765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029200" y="16765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943600" y="16765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858000" y="16765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696080" y="16765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534520" y="16765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124080" y="24382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038480" y="24382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71360" y="1295280"/>
            <a:ext cx="42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991800" y="12952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77600" y="129528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584440" y="1295280"/>
            <a:ext cx="3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372840" y="133668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327560" y="1295280"/>
            <a:ext cx="3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182920" y="12952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156360" y="1295280"/>
            <a:ext cx="3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070760" y="1295280"/>
            <a:ext cx="3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868880" y="126036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8610480" y="12952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363400" y="20574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413160" y="2057400"/>
            <a:ext cx="3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260960" y="2057400"/>
            <a:ext cx="3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167440" y="2098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1371600" y="2666880"/>
            <a:ext cx="64008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2362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86000" y="2362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276720" y="2362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191120" y="2362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105520" y="2362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19920" y="2362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010280" y="236232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95280" y="236232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94720" y="202248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585440" y="202248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76520" y="2022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66880" y="20224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57600" y="20224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95680" y="20224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233760" y="202248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224840" y="202248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209680" y="2658960"/>
            <a:ext cx="4724640" cy="35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04920" y="2514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066680" y="2514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2514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28800" y="2514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666880" y="2514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343400" y="2514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105520" y="2514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18760" y="20988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863800" y="2133720"/>
            <a:ext cx="3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657600" y="21337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041560" y="2133720"/>
            <a:ext cx="3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556160" y="2133720"/>
            <a:ext cx="3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35920" y="213372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203480" y="213372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523880" y="3124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057400" y="3124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666880" y="3124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276720" y="3124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11000" y="27082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117880" y="2743200"/>
            <a:ext cx="33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660760" y="2743200"/>
            <a:ext cx="3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260880" y="2743200"/>
            <a:ext cx="33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143000" y="3429000"/>
            <a:ext cx="64771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2362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828800" y="2362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819520" y="2362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495680" y="236232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486400" y="2362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2362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2362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715000" y="1981080"/>
            <a:ext cx="3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543800" y="19810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30040" y="19810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21120" y="1981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133720" y="1981080"/>
            <a:ext cx="4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800600" y="1981080"/>
            <a:ext cx="5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048120" y="1981080"/>
            <a:ext cx="4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362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553080" y="1981080"/>
            <a:ext cx="90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05920" y="2362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528040" y="1981080"/>
            <a:ext cx="3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892600" y="2819520"/>
            <a:ext cx="37861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09480" y="24382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828800" y="24382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048120" y="24382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343400" y="24382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562720" y="24382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75960" y="20224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10760" y="20574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52880" y="20224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278520" y="205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785840" y="20224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905120" y="2971800"/>
            <a:ext cx="510516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533520" y="22096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752480" y="22096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971800" y="22096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114800" y="22096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4120" y="22096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553080" y="22096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58240" y="179388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925280" y="179388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260880" y="1828800"/>
            <a:ext cx="33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335120" y="18288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639760" y="18288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859800" y="1828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620120" y="22096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925760" y="18288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828800" y="2743200"/>
            <a:ext cx="579132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752480" y="18288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819520" y="18288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962520" y="18288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105520" y="18288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001240" y="14130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110040" y="141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287240" y="14130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319720" y="141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2057400" y="2286000"/>
            <a:ext cx="36608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066680" y="21337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828800" y="2133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590920" y="2133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21337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038480" y="21337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724280" y="21337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410080" y="21337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172200" y="2133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934320" y="2133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620120" y="2133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981080" y="17524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821320" y="1752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506400" y="175248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937040" y="1752480"/>
            <a:ext cx="3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562720" y="1752480"/>
            <a:ext cx="41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325560" y="175248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070760" y="1752480"/>
            <a:ext cx="3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773840" y="17524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297080" y="175248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268160" y="175248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818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442360" y="1752480"/>
            <a:ext cx="3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514600" y="2666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05920" y="2133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352680" y="26668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7080" y="26668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105520" y="2666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523960" y="2251080"/>
            <a:ext cx="44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413160" y="2286000"/>
            <a:ext cx="3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413240" y="2286000"/>
            <a:ext cx="3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241960" y="2286000"/>
            <a:ext cx="3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3200400" y="3429000"/>
            <a:ext cx="2743200" cy="9018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1752480" y="3276720"/>
            <a:ext cx="59436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676520" y="1828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438280" y="18288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200400" y="1828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038480" y="18288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800600" y="1828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477120" y="1828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638680" y="18288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830240" y="144792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353760" y="144792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652480" y="14130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896920" y="19810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391520" y="1828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185720" y="14130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973040" y="14130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792400" y="144792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537240" y="1447920"/>
            <a:ext cx="3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461360" y="1447920"/>
            <a:ext cx="3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505320" y="2362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419720" y="2362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362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565440" y="1981080"/>
            <a:ext cx="3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565520" y="1981080"/>
            <a:ext cx="3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838080" y="2743200"/>
            <a:ext cx="3008520" cy="31608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4724280" y="2971800"/>
            <a:ext cx="3915000" cy="26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8-11T08:02:48Z</dcterms:created>
  <dc:creator>User</dc:creator>
  <dc:description/>
  <dc:language>en-US</dc:language>
  <cp:lastModifiedBy>Rutherford County Schools</cp:lastModifiedBy>
  <dcterms:modified xsi:type="dcterms:W3CDTF">2007-04-21T15:19:10Z</dcterms:modified>
  <cp:revision>19</cp:revision>
  <dc:subject/>
  <dc:title>No Slide Title</dc:title>
</cp:coreProperties>
</file>